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15B-2E85-4E7C-A5BE-23D5A1D5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805-6ED7-4887-B10C-11E72D9D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372-DF5E-4F28-9A8E-63FABAF6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3373-F144-4D73-9B3F-DCF4532D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4E7-37A7-43F8-BE90-0C6D901B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736-57C1-412A-A3B2-6DECF8F0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B10-8C7A-4DB2-B354-4F39169D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A01-B835-4AC2-A594-45AAF3AF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15C-7D61-49E6-9320-CD3342ED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8F4-4682-47F1-838E-219613D6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D65-A75D-4A4B-A7B8-2F5AB42D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EB4-4247-43B0-8CC0-C16A2F0A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A061-FF6D-4133-AD9D-B49862A14A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8924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een standard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571760" y="2117880"/>
            <a:ext cx="2643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θος (1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απητος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γιος (23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καιος (7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καστος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τερος (9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5214960" y="2260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214960" y="29034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5214960" y="3503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214960" y="4132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right,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214960" y="47419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14960" y="53611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,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571760" y="1785960"/>
            <a:ext cx="2643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διος (1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ουδαιος (195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κ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λος (10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ν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καρι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5214960" y="1928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’s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521496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wish, a J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5214960" y="31719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5214960" y="3800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utiful,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5214960" y="4410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5214960" y="50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essed,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643040" y="1714680"/>
            <a:ext cx="2643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ονος (1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εκρος (1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σος (11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ος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νηρος (7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υφλ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286240" y="18572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, 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528624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286240" y="31003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/how grea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/how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5286240" y="4950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l, w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286240" y="55926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5286240" y="4311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thful, beli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57120" y="12859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lightly irregular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85920" y="332892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important conj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071720" y="1785960"/>
            <a:ext cx="46432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γας, μεγαλη, μεγα (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λυς, πολλη, πολυ (4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143000" y="3828960"/>
            <a:ext cx="46432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α (6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 (5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 (3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ὡς (50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857920" y="1928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,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85792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ch,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857920" y="40006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5857920" y="4643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857920" y="5224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5857920" y="5786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385920" y="128592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feminin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1143000" y="1785960"/>
            <a:ext cx="46432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αλιλαια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ρηνη (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εφαλη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αγωγη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857920" y="1957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i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857920" y="2600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857920" y="3181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857920" y="3743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ag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28760" y="442908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143000" y="4929120"/>
            <a:ext cx="46432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ρος (8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μι (24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5857920" y="50720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, s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5857920" y="5715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428760" y="1428840"/>
            <a:ext cx="7929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pecial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re are two alternatives for ‘Jerusalem’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εροσολυμα (77)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euter plural wor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 rough breathing, 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ερουσαλημ (63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singular indeclinable word with a smooth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ωνιος (71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meaning ‘eternal’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ωνιο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uses the feminine forms. It us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sculine endings when agreeing with 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noun, e.g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αἰωνιος ζωη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20:34:04Z</dcterms:created>
  <dc:creator>Sarah</dc:creator>
  <dc:description/>
  <dc:language>en-US</dc:language>
  <cp:lastModifiedBy>Sarah</cp:lastModifiedBy>
  <dcterms:modified xsi:type="dcterms:W3CDTF">2009-06-29T10:04:51Z</dcterms:modified>
  <cp:revision>46</cp:revision>
  <dc:subject/>
  <dc:title>Slide 1</dc:title>
</cp:coreProperties>
</file>